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gif" ContentType="image/gif"/>
  <Override PartName="/ppt/media/image3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D96A5-B7CE-4EDD-8115-48259224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60A4-8D1E-4504-AA58-7467526A7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D60DF-4C6F-4982-AB32-1C4CEF781E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5F0ED-989F-4588-918D-F3F7210E56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04C41-8191-4244-A91C-931BEBD6F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22EE7-450F-489B-B01C-2BCE24258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745B-4035-4CD2-9020-2807844E5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A6F22-EE48-4036-AB49-D3754ACAD4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669D-AB76-43A7-AB95-108B43FDB9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21837-E792-4849-A708-DBED6D0280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4AE1-E12C-4331-8581-B8D70887BC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E29F-E241-4432-B67E-E7C3903E2E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7B3D-476F-4D71-A787-C7F9ACC6B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0543-8C71-4992-A928-34E4517872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7514B-658B-4B46-95A2-5A85976C08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3D075-657D-4909-9773-CA6805BB36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4B6C4-E181-4975-846D-455A930D40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DB974-ED48-4947-9D22-A5F327F37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7A765-57C0-4C4F-92B2-E5CC306BC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EFA4-1519-4D9D-AFD4-5586B4896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ABEE7-3DF0-4755-A442-97D9EA7D2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DF5C-F9BF-49C3-B01B-CEC93F1257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B0874-1CAA-45BF-939B-B649FB9593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5904-8994-423E-9B9D-681093555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1197-671C-43BA-9BFA-0DB0D4054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73EF-E8F5-4E0C-AD0D-54A955509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FC5D-D42A-4617-ADBF-371017D52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C253-0761-43C7-8135-17470D47E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5368A-3451-4383-98E6-579E2DADBC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52360" y="682560"/>
            <a:ext cx="4554720" cy="3416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09BF-DC26-4BF8-9737-7AF31D8A5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8E69-AAD5-4021-AC50-97129A74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63E-0B70-4132-9F5D-F173229CC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A08B-036C-4BDB-A957-A73B39DEC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54C52-3739-4875-B20F-153F18A28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3236C-B3B8-4F3D-BDC7-7C9BF6EA3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DE47F-75CB-4297-87CF-09D8ABC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40EF1-3862-4623-89C5-E700C6B32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5E581-411F-4919-8AE4-B11C9757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949CF-59F7-43E0-B3A9-9D79478F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1D531-9F4A-4284-936E-0D17383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0935-1735-4D9D-B2D4-8D2453EA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4EEB7-8588-4BD3-9B50-9BC75561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5FD26-E70B-42E2-847B-BBD15C12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7EF4C-605A-4CB8-A6A8-8413F8FC7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E7E84-09FD-42F4-8188-E9A875C0A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8E325-9A3A-44A1-A00A-651399410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C786-E476-450A-B3D6-A0ED41AB0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41EE-79C3-4537-8FA8-7D41595F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B1B0-8F29-4A72-8BF8-B61BDE309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5324-EA8D-4C5A-B5A9-96A616D8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BBA0-0C3E-44E7-9A52-862A07941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E8B-A70A-4D2E-8BF8-5B75A136D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E222-D62C-4F47-9811-6216F12BC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39261-AD59-414F-9027-5D2FB8F1A01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AEF1-182B-4F40-9FBA-23155A84EDD7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300" spc="-1" strike="noStrike">
                <a:solidFill>
                  <a:srgbClr val="000000"/>
                </a:solidFill>
                <a:latin typeface="Kristen ITC"/>
              </a:rPr>
              <a:t>Halloween Math Centers</a:t>
            </a:r>
            <a:endParaRPr b="1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304955"/>
          <p:cNvPicPr/>
          <p:nvPr/>
        </p:nvPicPr>
        <p:blipFill>
          <a:blip r:embed="rId1"/>
          <a:stretch/>
        </p:blipFill>
        <p:spPr>
          <a:xfrm>
            <a:off x="0" y="0"/>
            <a:ext cx="2133720" cy="12002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39061"/>
          <p:cNvPicPr/>
          <p:nvPr/>
        </p:nvPicPr>
        <p:blipFill>
          <a:blip r:embed="rId2"/>
          <a:stretch/>
        </p:blipFill>
        <p:spPr>
          <a:xfrm>
            <a:off x="6019920" y="2362320"/>
            <a:ext cx="232092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Kristen ITC"/>
              </a:rPr>
              <a:t>Sweet Pictograph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ara returned from trick-or-treating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 lots of candy.  Help Sara sort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er candy.  Create a pictograph to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splay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j0232048"/>
          <p:cNvPicPr/>
          <p:nvPr/>
        </p:nvPicPr>
        <p:blipFill>
          <a:blip r:embed="rId1"/>
          <a:stretch/>
        </p:blipFill>
        <p:spPr>
          <a:xfrm>
            <a:off x="762120" y="2743200"/>
            <a:ext cx="197172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j0285598"/>
          <p:cNvPicPr/>
          <p:nvPr/>
        </p:nvPicPr>
        <p:blipFill>
          <a:blip r:embed="rId2"/>
          <a:stretch/>
        </p:blipFill>
        <p:spPr>
          <a:xfrm>
            <a:off x="6781680" y="1371600"/>
            <a:ext cx="181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weet Pictograph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cket of can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empus Sans ITC"/>
              </a:rPr>
              <a:t>Creepy Counting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ace a handful of pumpkin ghost counters in a c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ake the counters in the cup and spill them on the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k at the counters.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there more gho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there more pumpkin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re the amounts equa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cord your results.  Write a greater than or less than equation for each time you spill the coun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at the activity at least more 5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j0232171"/>
          <p:cNvPicPr/>
          <p:nvPr/>
        </p:nvPicPr>
        <p:blipFill>
          <a:blip r:embed="rId1"/>
          <a:stretch/>
        </p:blipFill>
        <p:spPr>
          <a:xfrm>
            <a:off x="7086600" y="0"/>
            <a:ext cx="1868400" cy="17733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j0232182"/>
          <p:cNvPicPr/>
          <p:nvPr/>
        </p:nvPicPr>
        <p:blipFill>
          <a:blip r:embed="rId2"/>
          <a:stretch/>
        </p:blipFill>
        <p:spPr>
          <a:xfrm rot="897000">
            <a:off x="5181120" y="4343400"/>
            <a:ext cx="12510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epy Counting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a beans—one side painted orange with 2 triangles for eyes and a zig zag mouth (Jack-o-Lantern face) and one side with 2 black eyes (Gh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heet/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Juice ITC"/>
              </a:rPr>
              <a:t>Haunting Equations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Place a handful of pumpkin ghost counters in a cup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Shake the counters in the cup and spill them on the tabl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Create an addition or subtraction equation to show how many altogether or how many mo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Record your equation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Extension:  Create a word problem for each equ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=    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5" descr="j0237798"/>
          <p:cNvPicPr/>
          <p:nvPr/>
        </p:nvPicPr>
        <p:blipFill>
          <a:blip r:embed="rId1"/>
          <a:stretch/>
        </p:blipFill>
        <p:spPr>
          <a:xfrm>
            <a:off x="2057400" y="5257800"/>
            <a:ext cx="1295280" cy="12016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j0237799"/>
          <p:cNvPicPr/>
          <p:nvPr/>
        </p:nvPicPr>
        <p:blipFill>
          <a:blip r:embed="rId2"/>
          <a:stretch/>
        </p:blipFill>
        <p:spPr>
          <a:xfrm>
            <a:off x="4038480" y="5181480"/>
            <a:ext cx="134964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unting Equation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a beans—one side painted orange (Jack-o-Lantern face) and one side with 2 black eyes (Gh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rding sheet/pap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hiller"/>
              </a:rPr>
              <a:t>Frightening Pattern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010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sing the assortment of spooky objects, create a variety of different patterns.  Record your patterns on the paper provi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C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AB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B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BABBABBB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j0304953"/>
          <p:cNvPicPr/>
          <p:nvPr/>
        </p:nvPicPr>
        <p:blipFill>
          <a:blip r:embed="rId1"/>
          <a:stretch/>
        </p:blipFill>
        <p:spPr>
          <a:xfrm rot="20515800">
            <a:off x="4191120" y="15192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5" descr="j0304953"/>
          <p:cNvPicPr/>
          <p:nvPr/>
        </p:nvPicPr>
        <p:blipFill>
          <a:blip r:embed="rId2"/>
          <a:stretch/>
        </p:blipFill>
        <p:spPr>
          <a:xfrm rot="20515800">
            <a:off x="5715000" y="228240"/>
            <a:ext cx="1600200" cy="14763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j0304953"/>
          <p:cNvPicPr/>
          <p:nvPr/>
        </p:nvPicPr>
        <p:blipFill>
          <a:blip r:embed="rId3"/>
          <a:stretch/>
        </p:blipFill>
        <p:spPr>
          <a:xfrm rot="20515800">
            <a:off x="7238880" y="228240"/>
            <a:ext cx="1600200" cy="14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rightening Pattern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sta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objects such as bugs, bats, spiders, leav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ntence strips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Spooky Sorting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 the Halloween objects into groups based on one common attribu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r partner guess the attribute you selec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 the objects by two attributes and have your partner guess the attributes you selec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witch roles and repeat the activ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6" descr="j0279296"/>
          <p:cNvPicPr/>
          <p:nvPr/>
        </p:nvPicPr>
        <p:blipFill>
          <a:blip r:embed="rId1"/>
          <a:stretch/>
        </p:blipFill>
        <p:spPr>
          <a:xfrm>
            <a:off x="5791320" y="228600"/>
            <a:ext cx="22096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oky Sorting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terials to sort—leaves, candy, cri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nn r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Pumpkin Nim</a:t>
            </a: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773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pumpkin is cover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person who fills in the last hexagon win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hexag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5" descr="j0335889"/>
          <p:cNvPicPr/>
          <p:nvPr/>
        </p:nvPicPr>
        <p:blipFill>
          <a:blip r:embed="rId1"/>
          <a:stretch/>
        </p:blipFill>
        <p:spPr>
          <a:xfrm>
            <a:off x="5715000" y="1143000"/>
            <a:ext cx="205740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Gigi"/>
              </a:rPr>
              <a:t>Witchy Weighing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7720" y="2362320"/>
            <a:ext cx="80773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t which pumpkin has the greatest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pumpkins in order, from the pumpkin with the greatest mass to the pumpkin with the least ma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eigh the pumpkins to determine how close your predictions w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mass of each pumpki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j0285616"/>
          <p:cNvPicPr/>
          <p:nvPr/>
        </p:nvPicPr>
        <p:blipFill>
          <a:blip r:embed="rId1"/>
          <a:stretch/>
        </p:blipFill>
        <p:spPr>
          <a:xfrm>
            <a:off x="6324480" y="609480"/>
            <a:ext cx="205740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chy Weighing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lance sc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ighing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kins of various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Papyrus"/>
              </a:rPr>
              <a:t>Cauldron Capacities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redict which container has the            greatest capa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lace the containers in order, from the container that will hold the least amount of liquid to the container that will hold the mo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capacity of each container to determine how close your predictions we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the capacity of each contain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" descr="j0279294"/>
          <p:cNvPicPr/>
          <p:nvPr/>
        </p:nvPicPr>
        <p:blipFill>
          <a:blip r:embed="rId1"/>
          <a:stretch/>
        </p:blipFill>
        <p:spPr>
          <a:xfrm>
            <a:off x="6858000" y="1219320"/>
            <a:ext cx="20080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auldron Capacities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ers of various siz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er, rice, or beans for measu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Jokerman"/>
              </a:rPr>
              <a:t>Measuring Pumpkins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stimate the height, width, and circumference of the pumpkin.  Cut a piece of string to match each of your estima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 the height, width, and circumference of the pumpkin.  Compare the lengths of your string with the actual measurements of the pumpk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close were your estimat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easure the height and width of the pumpkin using non-standard units.  Compare your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4" descr="j0305493"/>
          <p:cNvPicPr/>
          <p:nvPr/>
        </p:nvPicPr>
        <p:blipFill>
          <a:blip r:embed="rId1"/>
          <a:stretch/>
        </p:blipFill>
        <p:spPr>
          <a:xfrm>
            <a:off x="6705720" y="685800"/>
            <a:ext cx="205740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ing Pumpkin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standard units—paper clips, cub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Papyrus"/>
              </a:rPr>
              <a:t>Witches’ Stew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your own concoction by filling a bag with your favorite good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ragon Sc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hriveled Spi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roll E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at Toen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itch Tee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mpire Bl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j0213482"/>
          <p:cNvPicPr/>
          <p:nvPr/>
        </p:nvPicPr>
        <p:blipFill>
          <a:blip r:embed="rId1"/>
          <a:stretch/>
        </p:blipFill>
        <p:spPr>
          <a:xfrm>
            <a:off x="7010280" y="228600"/>
            <a:ext cx="1730520" cy="23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itches’ Stew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on Scales—Cinnamon Toast Crun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riveled Spiders—Rais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oll Eyes—M &amp; M can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 Toenails—Pean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ch Teeth—Candy Co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mpire Blood—Dried Cranberries (Craisi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ldrons/co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iplock b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ps or spoons to measure fo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Kristen ITC"/>
              </a:rPr>
              <a:t>Fabulous Fall Idea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cribe additional ideas you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your math class to engag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ivate your students during the fall sea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j0199417"/>
          <p:cNvPicPr/>
          <p:nvPr/>
        </p:nvPicPr>
        <p:blipFill>
          <a:blip r:embed="rId1"/>
          <a:stretch/>
        </p:blipFill>
        <p:spPr>
          <a:xfrm>
            <a:off x="6629400" y="304920"/>
            <a:ext cx="2097000" cy="204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umpkin Nim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mpkin Nim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Creepy Crawly Estimation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elect one student to be the “Counter” and one student to be the “Estimator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“Counter” should count a number of critters and place them in the bag. Do not tell the “Estimator” the secret number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“Estimator” should estimate how many critters are in the bag.  (Be sure to have some critters available to use as a reference.)  They may feel and shake the bag, but they may not open it.  Have the “Estimator” talk about the reasons for their gues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The “Estimator” should then empty the bag of critters and count them.  How close was the estimate?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omic Sans MS"/>
              </a:rPr>
              <a:t>Switch roles and repeat the activit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350382"/>
          <p:cNvPicPr/>
          <p:nvPr/>
        </p:nvPicPr>
        <p:blipFill>
          <a:blip r:embed="rId1"/>
          <a:stretch/>
        </p:blipFill>
        <p:spPr>
          <a:xfrm rot="556200">
            <a:off x="7550280" y="0"/>
            <a:ext cx="1593720" cy="1790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j0350379"/>
          <p:cNvPicPr/>
          <p:nvPr/>
        </p:nvPicPr>
        <p:blipFill>
          <a:blip r:embed="rId2"/>
          <a:stretch/>
        </p:blipFill>
        <p:spPr>
          <a:xfrm>
            <a:off x="0" y="228600"/>
            <a:ext cx="180324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reepy Crawly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 &amp; orange unifix cubes, critters, frogs, etc.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hiller"/>
              </a:rPr>
              <a:t>Spooky Data Collection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a bag of Halloween obje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ort and count the objects in the bag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reate a representation to display the data (chart, table, pictograph, bar graph, etc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sion:  Create several questions about your data displ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188515"/>
          <p:cNvPicPr/>
          <p:nvPr/>
        </p:nvPicPr>
        <p:blipFill>
          <a:blip r:embed="rId1"/>
          <a:stretch/>
        </p:blipFill>
        <p:spPr>
          <a:xfrm>
            <a:off x="7010280" y="838080"/>
            <a:ext cx="1513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ooky Data Collection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a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pping cubes, color cub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kers, crayons, or colored penc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10627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Chiller"/>
              </a:rPr>
              <a:t>Mysterious Counting Bags</a:t>
            </a:r>
            <a:endParaRPr b="1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lect a bag of Hallowee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mpty the bag and count the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cord your resul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tension:  Create your own mystery bag and exchange with a partn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j0188515"/>
          <p:cNvPicPr/>
          <p:nvPr/>
        </p:nvPicPr>
        <p:blipFill>
          <a:blip r:embed="rId1"/>
          <a:stretch/>
        </p:blipFill>
        <p:spPr>
          <a:xfrm>
            <a:off x="7772400" y="838080"/>
            <a:ext cx="15127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ysterious Counting Bags Material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 ba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lloween Ob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apping cubes, color cube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2:04:20Z</dcterms:created>
  <dc:creator>Randolph County Schools</dc:creator>
  <dc:description/>
  <dc:language>en-US</dc:language>
  <cp:lastModifiedBy>afloyd</cp:lastModifiedBy>
  <dcterms:modified xsi:type="dcterms:W3CDTF">2012-10-01T17:59:40Z</dcterms:modified>
  <cp:revision>12</cp:revision>
  <dc:subject/>
  <dc:title>Slide 1</dc:title>
</cp:coreProperties>
</file>